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33D-E4FD-4D02-9682-D95AEB176B4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7C1-8D97-4885-B4C2-CCAF181FE2C0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CCB-6B1E-4FC0-BDDE-ADB591F17645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C33-9521-49FB-88A6-0118F63D63A4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F9C-4686-431F-8CA8-1282EA8879C1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5E3-235B-4ED0-B183-0503A70A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34C-DA53-4FD0-9ECB-236BD41D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3FC-4A8A-4611-8B85-AE74A403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1A9-30C9-4961-A79A-3D4924E3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7F4-A7AC-42F3-9270-EA28499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79C-621A-4976-BA85-C4C859F1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F4C-FE55-44FC-A44A-2BE2EE6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C45-D66E-473E-81E8-9BF5183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A09-160D-48B0-B077-5816776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EA2-E263-4EAF-A63B-37E9F9F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9E1-9BED-44D1-943C-1EEEAE7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262-E8B8-48B3-95C8-CA7FAD1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B4E7-A3C4-4C0F-8DAB-03AAE1F612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2173320"/>
            <a:ext cx="943308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ADMINISTRATIVNO I FINANCIJSKO VOĐENJE PROJEKT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619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</a:rPr>
              <a:t>mr.sc. Latinka Janjanin, dipl. ing. bi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Stručna savjetnica za prirodne sust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Slika 6" descr=""/>
          <p:cNvPicPr/>
          <p:nvPr/>
        </p:nvPicPr>
        <p:blipFill>
          <a:blip r:embed="rId2"/>
          <a:stretch/>
        </p:blipFill>
        <p:spPr>
          <a:xfrm>
            <a:off x="217440" y="247680"/>
            <a:ext cx="2143080" cy="807840"/>
          </a:xfrm>
          <a:prstGeom prst="rect">
            <a:avLst/>
          </a:prstGeom>
          <a:ln w="0">
            <a:noFill/>
          </a:ln>
        </p:spPr>
      </p:pic>
      <p:pic>
        <p:nvPicPr>
          <p:cNvPr id="52" name="Slika 7" descr=""/>
          <p:cNvPicPr/>
          <p:nvPr/>
        </p:nvPicPr>
        <p:blipFill>
          <a:blip r:embed="rId3"/>
          <a:stretch/>
        </p:blipFill>
        <p:spPr>
          <a:xfrm>
            <a:off x="8205840" y="254160"/>
            <a:ext cx="381456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8" descr=""/>
          <p:cNvPicPr/>
          <p:nvPr/>
        </p:nvPicPr>
        <p:blipFill>
          <a:blip r:embed="rId4"/>
          <a:stretch/>
        </p:blipFill>
        <p:spPr>
          <a:xfrm>
            <a:off x="4495680" y="3840120"/>
            <a:ext cx="3200400" cy="506520"/>
          </a:xfrm>
          <a:prstGeom prst="rect">
            <a:avLst/>
          </a:prstGeom>
          <a:ln w="0">
            <a:noFill/>
          </a:ln>
        </p:spPr>
      </p:pic>
      <p:sp>
        <p:nvSpPr>
          <p:cNvPr id="54" name="Podnaslov 2"/>
          <p:cNvSpPr/>
          <p:nvPr/>
        </p:nvSpPr>
        <p:spPr>
          <a:xfrm>
            <a:off x="4416480" y="5759280"/>
            <a:ext cx="33591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Ljubljana, 25.09.20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Naslov 1"/>
          <p:cNvSpPr/>
          <p:nvPr/>
        </p:nvSpPr>
        <p:spPr>
          <a:xfrm>
            <a:off x="2000160" y="3268800"/>
            <a:ext cx="819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niOkvir 11"/>
          <p:cNvSpPr/>
          <p:nvPr/>
        </p:nvSpPr>
        <p:spPr>
          <a:xfrm>
            <a:off x="1523880" y="4575240"/>
            <a:ext cx="394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Ingrid Paljar, dipl.ing.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Voditeljica projekta, ravnateljica Za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lika 3" descr=""/>
          <p:cNvPicPr/>
          <p:nvPr/>
        </p:nvPicPr>
        <p:blipFill>
          <a:blip r:embed="rId5"/>
          <a:stretch/>
        </p:blipFill>
        <p:spPr>
          <a:xfrm>
            <a:off x="9879120" y="5899320"/>
            <a:ext cx="1865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Slika 4" descr=""/>
          <p:cNvPicPr/>
          <p:nvPr/>
        </p:nvPicPr>
        <p:blipFill>
          <a:blip r:embed="rId6"/>
          <a:stretch/>
        </p:blipFill>
        <p:spPr>
          <a:xfrm>
            <a:off x="2166840" y="5721480"/>
            <a:ext cx="803520" cy="882360"/>
          </a:xfrm>
          <a:prstGeom prst="rect">
            <a:avLst/>
          </a:prstGeom>
          <a:ln w="0">
            <a:noFill/>
          </a:ln>
        </p:spPr>
      </p:pic>
      <p:pic>
        <p:nvPicPr>
          <p:cNvPr id="59" name="Slika 12" descr=""/>
          <p:cNvPicPr/>
          <p:nvPr/>
        </p:nvPicPr>
        <p:blipFill>
          <a:blip r:embed="rId7"/>
          <a:stretch/>
        </p:blipFill>
        <p:spPr>
          <a:xfrm>
            <a:off x="7759800" y="5721480"/>
            <a:ext cx="119052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Slika 13" descr=""/>
          <p:cNvPicPr/>
          <p:nvPr/>
        </p:nvPicPr>
        <p:blipFill>
          <a:blip r:embed="rId8"/>
          <a:stretch/>
        </p:blipFill>
        <p:spPr>
          <a:xfrm>
            <a:off x="376200" y="5781600"/>
            <a:ext cx="10098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Slika 14" descr=""/>
          <p:cNvPicPr/>
          <p:nvPr/>
        </p:nvPicPr>
        <p:blipFill>
          <a:blip r:embed="rId9"/>
          <a:stretch/>
        </p:blipFill>
        <p:spPr>
          <a:xfrm>
            <a:off x="3613320" y="56786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3440" y="1290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Slika 6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64" name="Slika 7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03440" y="2544840"/>
            <a:ext cx="91440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inancijski d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otrebna dokument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lika 9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806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lika 5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Slika 6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72" name="Slika 7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838080" y="2282400"/>
            <a:ext cx="10515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i datum predaje Izvješća 31.08.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 prihvatljivi troškovi uneseni i zaključeni u ISARR-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proslijeđeno nacionalnom kontroloru → poštom (original i kop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čuni i financijski dokumenti i prilozi posloženi prema uputama iz Smjernica za izvještavanje za korisnik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79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0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17440" y="1609560"/>
          <a:ext cx="11779200" cy="4265640"/>
        </p:xfrm>
        <a:graphic>
          <a:graphicData uri="http://schemas.openxmlformats.org/drawingml/2006/table">
            <a:tbl>
              <a:tblPr/>
              <a:tblGrid>
                <a:gridCol w="16988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</a:tblGrid>
              <a:tr h="189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1</a:t>
                      </a:r>
                      <a:r>
                        <a:rPr b="0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KAZ ODOBRENIH, PLANIRANIH I UTROŠENIH SREDSTAVA PO PROJEKTNOM PARTNE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ska općina Kopar (PP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34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6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65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2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29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4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8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216,7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309,2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692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ni razvojni centar Kopar (PP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-Fakultet za arhitekturu (PP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73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741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90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1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2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56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7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3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0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152,11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02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88640">
                <a:tc gridSpan="7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 ISA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47600" y="2198520"/>
          <a:ext cx="5113440" cy="2954520"/>
        </p:xfrm>
        <a:graphic>
          <a:graphicData uri="http://schemas.openxmlformats.org/drawingml/2006/table">
            <a:tbl>
              <a:tblPr/>
              <a:tblGrid>
                <a:gridCol w="2595600"/>
                <a:gridCol w="996840"/>
                <a:gridCol w="1521000"/>
              </a:tblGrid>
              <a:tr h="2145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LED IZDATAKA PO KATEGORIJAM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 prihvatljivi troškovi projekta (do 01.05.2016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.227,07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virni iznos zatraženih EFRR sredstava                 (do 31.12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,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avljeni izdaci u 1. Izvješću (do 31.07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838,44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SA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TekstniOkvir 1"/>
          <p:cNvSpPr/>
          <p:nvPr/>
        </p:nvSpPr>
        <p:spPr>
          <a:xfrm>
            <a:off x="5213520" y="1521000"/>
            <a:ext cx="80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1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lika 3" descr=""/>
          <p:cNvPicPr/>
          <p:nvPr/>
        </p:nvPicPr>
        <p:blipFill>
          <a:blip r:embed="rId5"/>
          <a:stretch/>
        </p:blipFill>
        <p:spPr>
          <a:xfrm>
            <a:off x="4919760" y="1741320"/>
            <a:ext cx="72723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96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71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TekstniOkvir 15"/>
          <p:cNvSpPr/>
          <p:nvPr/>
        </p:nvSpPr>
        <p:spPr>
          <a:xfrm>
            <a:off x="28440" y="1857240"/>
            <a:ext cx="143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2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avokutnik 17"/>
          <p:cNvSpPr/>
          <p:nvPr/>
        </p:nvSpPr>
        <p:spPr>
          <a:xfrm>
            <a:off x="6264360" y="5135400"/>
            <a:ext cx="31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avokutnik 18"/>
          <p:cNvSpPr/>
          <p:nvPr/>
        </p:nvSpPr>
        <p:spPr>
          <a:xfrm>
            <a:off x="0" y="5641920"/>
            <a:ext cx="31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65880" y="2328840"/>
          <a:ext cx="5748480" cy="2811600"/>
        </p:xfrm>
        <a:graphic>
          <a:graphicData uri="http://schemas.openxmlformats.org/drawingml/2006/table">
            <a:tbl>
              <a:tblPr/>
              <a:tblGrid>
                <a:gridCol w="2187720"/>
                <a:gridCol w="1187280"/>
                <a:gridCol w="1185840"/>
                <a:gridCol w="1187640"/>
              </a:tblGrid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JEK PRORAČUNA PROJEKTA ZA 2015. G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u 1. razdoblja izvješt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ostalo sredst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46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 Kopar (PP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687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C Kopar (P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85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et za arhitekturu (PP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13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019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pic>
        <p:nvPicPr>
          <p:cNvPr id="104" name="Slika 1" descr=""/>
          <p:cNvPicPr/>
          <p:nvPr/>
        </p:nvPicPr>
        <p:blipFill>
          <a:blip r:embed="rId5"/>
          <a:stretch/>
        </p:blipFill>
        <p:spPr>
          <a:xfrm>
            <a:off x="28440" y="2139840"/>
            <a:ext cx="62359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2689200"/>
            <a:ext cx="10515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eći partner podnosi ZTT-u Izvješće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1.12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Ugovor o sufinanciranju-Prilog 3-Kalendar izvještavan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P trebaju potvrđene troškove podnijeti VP-u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čl. 10., Sporazuma o partnerst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kvirni iznos zatraženih EFRR sredstava kod 1. Izvješća=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100.000,00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P mora poslati svakom PP kopiju Izvješća podnesenog ZTT-u (st. 4., čl. 10., Sporazuma o partnerstv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09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0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1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Naslov 1"/>
          <p:cNvSpPr/>
          <p:nvPr/>
        </p:nvSpPr>
        <p:spPr>
          <a:xfrm>
            <a:off x="838080" y="1081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2334960"/>
            <a:ext cx="105156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P trebaju do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 godine VP-u dostavi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Izjave o potvrđenim izdac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opisa račun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slije potvrde 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Financijsko izvješće partner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zvješće partnera o provedenim aktivnost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17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9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20" name="Naslov 1"/>
          <p:cNvSpPr/>
          <p:nvPr/>
        </p:nvSpPr>
        <p:spPr>
          <a:xfrm>
            <a:off x="838080" y="10098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Potrebna dokumentacij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223488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br>
              <a:rPr sz="43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124" name="Slika 6" descr=""/>
          <p:cNvPicPr/>
          <p:nvPr/>
        </p:nvPicPr>
        <p:blipFill>
          <a:blip r:embed="rId2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126" name="Slika 8" descr=""/>
          <p:cNvPicPr/>
          <p:nvPr/>
        </p:nvPicPr>
        <p:blipFill>
          <a:blip r:embed="rId4"/>
          <a:stretch/>
        </p:blipFill>
        <p:spPr>
          <a:xfrm>
            <a:off x="4278240" y="3963960"/>
            <a:ext cx="36352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12:58:45Z</dcterms:created>
  <dc:creator>Sandro Krizman</dc:creator>
  <dc:description/>
  <dc:language>en-US</dc:language>
  <cp:lastModifiedBy>Sandro Krizman</cp:lastModifiedBy>
  <dcterms:modified xsi:type="dcterms:W3CDTF">2015-09-17T08:05:06Z</dcterms:modified>
  <cp:revision>111</cp:revision>
  <dc:subject/>
  <dc:title>ADMINISTRATIVNO I FINANCIJSKO STANJE PROJEKTA</dc:title>
</cp:coreProperties>
</file>