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12192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E35A6-0C3F-4CC6-AF7E-898F55D42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sr-Latn-R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sr-Latn-R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sr-Latn-R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7955B-0036-4CFB-B9AF-CA2BD57A9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sr-Latn-R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sr-Latn-R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sr-Latn-R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sr-Latn-R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sr-Latn-R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C1FFE-9F7B-4B89-889E-51013585C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sr-Latn-R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sr-Latn-R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sr-Latn-R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sr-Latn-R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sr-Latn-R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sr-Latn-R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sr-Latn-R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3E8C6-9829-4E52-81EC-3C919F1A6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234C6-B051-490D-ACBA-6B2C4CBBF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sr-Latn-R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FD5C2-DCFB-4782-B270-6D6AF8E3B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sr-Latn-R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sr-Latn-R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B2DB2-4E68-44AE-98F1-073401741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sr-Latn-R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sr-Latn-R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sr-Latn-R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5B2BC-1F61-45F2-B782-A19486469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sr-Latn-R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26094-01FD-457A-972C-6BE718947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523880" y="1122480"/>
            <a:ext cx="9143640" cy="110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31B7C-ADF2-4831-8E74-F06BFD84A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sr-Latn-R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sr-Latn-R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sr-Latn-R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sr-Latn-R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B9376-943C-4C01-81FE-99468300B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sr-Latn-R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904A1-C2F5-4035-ABEA-13A7DC480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sr-Latn-R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sr-Latn-R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sr-Latn-R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sr-Latn-R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6AAF9-9D06-48E8-BF29-5EC6B8AA6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sr-Latn-R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sr-Latn-R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sr-Latn-R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sr-Latn-R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21F9A-A5E3-426C-A011-973C3FC18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sr-Latn-R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sr-Latn-R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sr-Latn-R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BE35F-EE1E-4F45-BF98-A43A88790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sr-Latn-R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sr-Latn-R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sr-Latn-R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sr-Latn-R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sr-Latn-R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675F7-7D09-4FFF-AF2E-C99D573D8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sr-Latn-R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sr-Latn-R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sr-Latn-R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sr-Latn-R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sr-Latn-R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sr-Latn-R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sr-Latn-R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6C494-5353-4267-A3C9-90FCB45B1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sr-Latn-R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sr-Latn-R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17F95-5576-444A-AE82-3858086DD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sr-Latn-R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sr-Latn-R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sr-Latn-R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0F429-BCF6-421F-8009-66DB5A363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sr-Latn-R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9A381-557C-4564-9DE2-13E0A460E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523880" y="1122480"/>
            <a:ext cx="9143640" cy="110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DDE19-14D4-44A7-9174-FFFF50F67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sr-Latn-R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sr-Latn-R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sr-Latn-R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sr-Latn-R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785F9-1B3E-476D-95E1-E0066486C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sr-Latn-R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sr-Latn-R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sr-Latn-R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sr-Latn-R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EF488-C5D4-48B8-81E9-251961546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sr-Latn-R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sr-Latn-R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sr-Latn-R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sr-Latn-R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E7F42-3602-4412-ABFD-D47D5D142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0" lang="hr-HR" sz="6000" spc="-1" strike="noStrike">
                <a:solidFill>
                  <a:srgbClr val="000000"/>
                </a:solidFill>
                <a:latin typeface="Calibri Light"/>
              </a:rPr>
              <a:t>Uredite stil naslova matrice</a:t>
            </a:r>
            <a:endParaRPr b="0" lang="sr-Latn-R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hr-HR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hr-HR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hr-HR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6A370EE-42EE-41FE-BA28-DDCAD6C61B7B}" type="slidenum">
              <a:rPr b="0" lang="hr-HR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sr-Latn-R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sr-Latn-RS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sr-Latn-R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sr-Latn-R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sr-Latn-RS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sr-Latn-R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sr-Latn-RS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sr-Latn-R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sr-Latn-R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sr-Latn-R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hr-HR" sz="4400" spc="-1" strike="noStrike">
                <a:solidFill>
                  <a:srgbClr val="000000"/>
                </a:solidFill>
                <a:latin typeface="Calibri Light"/>
              </a:rPr>
              <a:t>Uredite stil naslova matrice</a:t>
            </a:r>
            <a:endParaRPr b="0" lang="sr-Latn-R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Uredite stilove teksta matrice</a:t>
            </a:r>
            <a:endParaRPr b="0" lang="sr-Latn-R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Druga razina</a:t>
            </a:r>
            <a:endParaRPr b="0" lang="sr-Latn-R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Treća razina</a:t>
            </a:r>
            <a:endParaRPr b="0" lang="sr-Latn-R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hr-HR" sz="1800" spc="-1" strike="noStrike">
                <a:solidFill>
                  <a:srgbClr val="000000"/>
                </a:solidFill>
                <a:latin typeface="Calibri"/>
              </a:rPr>
              <a:t>Četvrta razina</a:t>
            </a:r>
            <a:endParaRPr b="0" lang="sr-Latn-RS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hr-HR" sz="1800" spc="-1" strike="noStrike">
                <a:solidFill>
                  <a:srgbClr val="000000"/>
                </a:solidFill>
                <a:latin typeface="Calibri"/>
              </a:rPr>
              <a:t>Peta razina</a:t>
            </a:r>
            <a:endParaRPr b="0" lang="sr-Latn-R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hr-HR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hr-HR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hr-HR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F48BE59-F0A2-4841-ADF4-164E586FD944}" type="slidenum">
              <a:rPr b="0" lang="hr-HR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3880" y="2426400"/>
            <a:ext cx="9143640" cy="1292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60000"/>
          </a:bodyPr>
          <a:p>
            <a:pPr indent="0" algn="ctr">
              <a:lnSpc>
                <a:spcPct val="150000"/>
              </a:lnSpc>
              <a:buNone/>
            </a:pPr>
            <a:br>
              <a:rPr sz="2000"/>
            </a:br>
            <a:r>
              <a:rPr b="1" lang="hr-HR" sz="4000" spc="-1" strike="noStrike">
                <a:solidFill>
                  <a:srgbClr val="000000"/>
                </a:solidFill>
                <a:latin typeface="Calibri"/>
              </a:rPr>
              <a:t>PUT-UP ISTRE</a:t>
            </a:r>
            <a:br>
              <a:rPr sz="2000"/>
            </a:br>
            <a:r>
              <a:rPr b="1" lang="hr-HR" sz="2700" spc="-1" strike="noStrike">
                <a:solidFill>
                  <a:srgbClr val="000000"/>
                </a:solidFill>
                <a:latin typeface="Calibri"/>
              </a:rPr>
              <a:t>PROVEDENE AKTIVNOSTI I FINANCIJSKI IZVJEŠTAJ GRADA PULE</a:t>
            </a:r>
            <a:endParaRPr b="0" lang="sr-Latn-R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523880" y="3878640"/>
            <a:ext cx="9143640" cy="18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3. Sastanak projektnih partnera i Stručne radne grupe projek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i="1" lang="pl-PL" sz="1800" spc="-1" strike="noStrike">
                <a:solidFill>
                  <a:srgbClr val="000000"/>
                </a:solidFill>
                <a:latin typeface="Calibri"/>
              </a:rPr>
              <a:t>Karmela Maren, mag. ing. ar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Ljubljana, 25.09.2015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2" descr="O:\Prostorno Planiranje\Karmela\PUT UP ISTRE\08_LOGOTIP\put-up_logo_color_CMYK.jpg"/>
          <p:cNvPicPr/>
          <p:nvPr/>
        </p:nvPicPr>
        <p:blipFill>
          <a:blip r:embed="rId1"/>
          <a:stretch/>
        </p:blipFill>
        <p:spPr>
          <a:xfrm>
            <a:off x="8750160" y="44640"/>
            <a:ext cx="1522080" cy="8636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3" descr="O:\Prostorno Planiranje\Karmela\PUT UP ISTRE\08_LOGOTIP\logo\si-hr_public_croatian_hr\4C_RGB\OP_SI-HR_INVESTING_cro_RGB.jpg"/>
          <p:cNvPicPr/>
          <p:nvPr/>
        </p:nvPicPr>
        <p:blipFill>
          <a:blip r:embed="rId2"/>
          <a:stretch/>
        </p:blipFill>
        <p:spPr>
          <a:xfrm>
            <a:off x="4526640" y="5949360"/>
            <a:ext cx="3153240" cy="5756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4" descr="O:\Prostorno Planiranje\Karmela\PUT UP ISTRE\08_LOGOTIP\logo\si-hr_logo_croatian_hr\4C\OP_SI-HR_hr_rgb.jpg"/>
          <p:cNvPicPr/>
          <p:nvPr/>
        </p:nvPicPr>
        <p:blipFill>
          <a:blip r:embed="rId3"/>
          <a:stretch/>
        </p:blipFill>
        <p:spPr>
          <a:xfrm>
            <a:off x="1847520" y="188640"/>
            <a:ext cx="2345400" cy="5756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6" descr=""/>
          <p:cNvPicPr/>
          <p:nvPr/>
        </p:nvPicPr>
        <p:blipFill>
          <a:blip r:embed="rId4"/>
          <a:srcRect l="18316" t="16244" r="33853" b="12879"/>
          <a:stretch/>
        </p:blipFill>
        <p:spPr>
          <a:xfrm>
            <a:off x="5591880" y="1196640"/>
            <a:ext cx="1037160" cy="12290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981080" y="1350000"/>
            <a:ext cx="8229240" cy="56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hr-HR" sz="3600" spc="-1" strike="noStrike">
                <a:solidFill>
                  <a:srgbClr val="000000"/>
                </a:solidFill>
                <a:latin typeface="Calibri Light"/>
              </a:rPr>
              <a:t>Provedene aktivnosti_RP1</a:t>
            </a:r>
            <a:endParaRPr b="0" lang="sr-Latn-R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981080" y="2205000"/>
            <a:ext cx="8229240" cy="38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hr-HR" sz="1600" spc="-1" strike="noStrike">
                <a:solidFill>
                  <a:srgbClr val="000000"/>
                </a:solidFill>
                <a:latin typeface="Calibri"/>
              </a:rPr>
              <a:t>Potpisivanje </a:t>
            </a:r>
            <a:r>
              <a:rPr b="1" lang="hr-HR" sz="1600" spc="-1" strike="noStrike">
                <a:solidFill>
                  <a:srgbClr val="000000"/>
                </a:solidFill>
                <a:latin typeface="Calibri"/>
              </a:rPr>
              <a:t>Sporazuma o partnerstvu</a:t>
            </a:r>
            <a:r>
              <a:rPr b="0" lang="hr-HR" sz="1600" spc="-1" strike="noStrike">
                <a:solidFill>
                  <a:srgbClr val="000000"/>
                </a:solidFill>
                <a:latin typeface="Calibri"/>
              </a:rPr>
              <a:t>, Pula, 18.05.2015.</a:t>
            </a:r>
            <a:endParaRPr b="0" lang="sr-Latn-RS" sz="1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hr-HR" sz="1600" spc="-1" strike="noStrike">
                <a:solidFill>
                  <a:srgbClr val="000000"/>
                </a:solidFill>
                <a:latin typeface="Calibri"/>
              </a:rPr>
              <a:t>Sudjelovanje na prvom sastanku </a:t>
            </a:r>
            <a:r>
              <a:rPr b="0" lang="hr-HR" sz="1600" spc="-1" strike="noStrike">
                <a:solidFill>
                  <a:srgbClr val="000000"/>
                </a:solidFill>
                <a:latin typeface="AcadEref"/>
              </a:rPr>
              <a:t>→</a:t>
            </a:r>
            <a:r>
              <a:rPr b="0" lang="hr-HR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hr-HR" sz="1600" spc="-1" strike="noStrike">
                <a:solidFill>
                  <a:srgbClr val="000000"/>
                </a:solidFill>
                <a:latin typeface="Calibri"/>
              </a:rPr>
              <a:t>Kick off meeting </a:t>
            </a:r>
            <a:r>
              <a:rPr b="0" lang="hr-HR" sz="1600" spc="-1" strike="noStrike">
                <a:solidFill>
                  <a:srgbClr val="000000"/>
                </a:solidFill>
                <a:latin typeface="Calibri"/>
              </a:rPr>
              <a:t>u Buzetu, 20.05.2015</a:t>
            </a:r>
            <a:endParaRPr b="0" lang="sr-Latn-RS" sz="1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1" lang="hr-HR" sz="1600" spc="-1" strike="noStrike">
                <a:solidFill>
                  <a:srgbClr val="000000"/>
                </a:solidFill>
                <a:latin typeface="Calibri"/>
              </a:rPr>
              <a:t>ISARR </a:t>
            </a:r>
            <a:r>
              <a:rPr b="1" lang="hr-HR" sz="1600" spc="-1" strike="noStrike">
                <a:solidFill>
                  <a:srgbClr val="000000"/>
                </a:solidFill>
                <a:latin typeface="AcadEref"/>
              </a:rPr>
              <a:t>→</a:t>
            </a:r>
            <a:r>
              <a:rPr b="1" lang="hr-HR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1600" spc="-1" strike="noStrike">
                <a:solidFill>
                  <a:srgbClr val="000000"/>
                </a:solidFill>
                <a:latin typeface="Calibri"/>
              </a:rPr>
              <a:t>instalacija</a:t>
            </a:r>
            <a:endParaRPr b="0" lang="sr-Latn-RS" sz="1600" spc="-1" strike="noStrike">
              <a:solidFill>
                <a:srgbClr val="000000"/>
              </a:solidFill>
              <a:latin typeface="Calibri"/>
            </a:endParaRPr>
          </a:p>
          <a:p>
            <a:pPr lvl="1" marL="1076400" indent="-22860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›"/>
            </a:pPr>
            <a:r>
              <a:rPr b="0" lang="hr-HR" sz="1600" spc="-1" strike="noStrike">
                <a:solidFill>
                  <a:srgbClr val="000000"/>
                </a:solidFill>
                <a:latin typeface="Calibri"/>
              </a:rPr>
              <a:t>unos troškova u ISARR</a:t>
            </a:r>
            <a:endParaRPr b="0" lang="sr-Latn-RS" sz="1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1" lang="hr-HR" sz="1600" spc="-1" strike="noStrike">
                <a:solidFill>
                  <a:srgbClr val="000000"/>
                </a:solidFill>
                <a:latin typeface="Calibri"/>
              </a:rPr>
              <a:t>I. Izvješće partnera o napretku </a:t>
            </a:r>
            <a:r>
              <a:rPr b="0" lang="hr-HR" sz="1600" spc="-1" strike="noStrike">
                <a:solidFill>
                  <a:srgbClr val="000000"/>
                </a:solidFill>
                <a:latin typeface="Calibri"/>
              </a:rPr>
              <a:t>(IA1_izvješće o aktivnostima + FI1_financijsko izvješće) </a:t>
            </a:r>
            <a:r>
              <a:rPr b="0" lang="hr-HR" sz="1600" spc="-1" strike="noStrike">
                <a:solidFill>
                  <a:srgbClr val="000000"/>
                </a:solidFill>
                <a:latin typeface="AcadEref"/>
              </a:rPr>
              <a:t>→</a:t>
            </a:r>
            <a:r>
              <a:rPr b="0" lang="hr-HR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r-HR" sz="1600" spc="-1" strike="noStrike">
                <a:solidFill>
                  <a:srgbClr val="000000"/>
                </a:solidFill>
                <a:latin typeface="Calibri"/>
              </a:rPr>
              <a:t>NACIONALNI KONTROLORI</a:t>
            </a:r>
            <a:endParaRPr b="0" lang="sr-Latn-RS" sz="1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1" lang="hr-HR" sz="1600" spc="-1" strike="noStrike">
                <a:solidFill>
                  <a:srgbClr val="000000"/>
                </a:solidFill>
                <a:latin typeface="Calibri"/>
              </a:rPr>
              <a:t>Sastanak u Puli</a:t>
            </a:r>
            <a:r>
              <a:rPr b="0" lang="hr-HR" sz="1600" spc="-1" strike="noStrike">
                <a:solidFill>
                  <a:srgbClr val="000000"/>
                </a:solidFill>
                <a:latin typeface="Calibri"/>
              </a:rPr>
              <a:t>, 20.07.2015. </a:t>
            </a:r>
            <a:r>
              <a:rPr b="0" lang="hr-HR" sz="1600" spc="-1" strike="noStrike">
                <a:solidFill>
                  <a:srgbClr val="000000"/>
                </a:solidFill>
                <a:latin typeface="AcadEref"/>
              </a:rPr>
              <a:t>→</a:t>
            </a:r>
            <a:r>
              <a:rPr b="0" lang="hr-HR" sz="1600" spc="-1" strike="noStrike">
                <a:solidFill>
                  <a:srgbClr val="000000"/>
                </a:solidFill>
                <a:latin typeface="Calibri"/>
              </a:rPr>
              <a:t> sastanak projektnih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1600" spc="-1" strike="noStrike">
                <a:solidFill>
                  <a:srgbClr val="000000"/>
                </a:solidFill>
                <a:latin typeface="Calibri"/>
              </a:rPr>
              <a:t>partnera, sastanak stručne radne grupe, sastanak upravnog odbora.</a:t>
            </a:r>
            <a:endParaRPr b="0" lang="sr-Latn-R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50000"/>
              </a:lnSpc>
              <a:spcBef>
                <a:spcPts val="1001"/>
              </a:spcBef>
              <a:buNone/>
            </a:pPr>
            <a:endParaRPr b="0" lang="sr-Latn-R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ts val="3600"/>
              </a:lnSpc>
              <a:spcBef>
                <a:spcPts val="1001"/>
              </a:spcBef>
              <a:buNone/>
            </a:pPr>
            <a:endParaRPr b="0" lang="sr-Latn-RS" sz="33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ts val="36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sr-Latn-R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4" descr="O:\Prostorno Planiranje\Karmela\PUT UP ISTRE\08_LOGOTIP\logo\si-hr_logo_croatian_hr\4C\OP_SI-HR_hr_rgb.jpg"/>
          <p:cNvPicPr/>
          <p:nvPr/>
        </p:nvPicPr>
        <p:blipFill>
          <a:blip r:embed="rId1"/>
          <a:stretch/>
        </p:blipFill>
        <p:spPr>
          <a:xfrm>
            <a:off x="4943880" y="188640"/>
            <a:ext cx="2345040" cy="5756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3" descr="O:\Prostorno Planiranje\Karmela\PUT UP ISTRE\08_LOGOTIP\logo\si-hr_public_croatian_hr\4C_RGB\OP_SI-HR_INVESTING_cro_RGB.jpg"/>
          <p:cNvPicPr/>
          <p:nvPr/>
        </p:nvPicPr>
        <p:blipFill>
          <a:blip r:embed="rId2"/>
          <a:stretch/>
        </p:blipFill>
        <p:spPr>
          <a:xfrm>
            <a:off x="4943880" y="6237360"/>
            <a:ext cx="2364480" cy="4316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" descr="O:\Prostorno Planiranje\Karmela\PUT UP ISTRE\08_LOGOTIP\put-up_logo_color_CMYK.jpg"/>
          <p:cNvPicPr/>
          <p:nvPr/>
        </p:nvPicPr>
        <p:blipFill>
          <a:blip r:embed="rId3"/>
          <a:stretch/>
        </p:blipFill>
        <p:spPr>
          <a:xfrm>
            <a:off x="8749800" y="44640"/>
            <a:ext cx="1522440" cy="8636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" descr=""/>
          <p:cNvPicPr/>
          <p:nvPr/>
        </p:nvPicPr>
        <p:blipFill>
          <a:blip r:embed="rId4"/>
          <a:srcRect l="18316" t="16244" r="33853" b="12879"/>
          <a:stretch/>
        </p:blipFill>
        <p:spPr>
          <a:xfrm>
            <a:off x="1993680" y="116640"/>
            <a:ext cx="789480" cy="9356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81080" y="1350000"/>
            <a:ext cx="8229240" cy="56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hr-HR" sz="3600" spc="-1" strike="noStrike">
                <a:solidFill>
                  <a:srgbClr val="000000"/>
                </a:solidFill>
                <a:latin typeface="Calibri Light"/>
              </a:rPr>
              <a:t>Provedene aktivnosti_RP3</a:t>
            </a:r>
            <a:endParaRPr b="0" lang="sr-Latn-R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981080" y="2205000"/>
            <a:ext cx="8229240" cy="392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ts val="36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hr-HR" sz="1800" spc="-1" strike="noStrike">
                <a:solidFill>
                  <a:srgbClr val="000000"/>
                </a:solidFill>
                <a:latin typeface="Calibri"/>
              </a:rPr>
              <a:t>Nabava usluge izrade </a:t>
            </a:r>
            <a:r>
              <a:rPr b="1" lang="hr-HR" sz="1800" spc="-1" strike="noStrike">
                <a:solidFill>
                  <a:srgbClr val="000000"/>
                </a:solidFill>
                <a:latin typeface="Calibri"/>
              </a:rPr>
              <a:t>ELABORATA ZAŠTITE OKOLIŠA</a:t>
            </a:r>
            <a:endParaRPr b="0" lang="sr-Latn-RS" sz="1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ts val="2999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›"/>
            </a:pPr>
            <a:r>
              <a:rPr b="0" lang="hr-HR" sz="1600" spc="-1" strike="noStrike">
                <a:solidFill>
                  <a:srgbClr val="000000"/>
                </a:solidFill>
                <a:latin typeface="Calibri"/>
              </a:rPr>
              <a:t>upućeni </a:t>
            </a:r>
            <a:r>
              <a:rPr b="1" lang="hr-HR" sz="1600" spc="-1" strike="noStrike">
                <a:solidFill>
                  <a:srgbClr val="000000"/>
                </a:solidFill>
                <a:latin typeface="Calibri"/>
              </a:rPr>
              <a:t>pozivi</a:t>
            </a:r>
            <a:r>
              <a:rPr b="0" lang="hr-HR" sz="1600" spc="-1" strike="noStrike">
                <a:solidFill>
                  <a:srgbClr val="000000"/>
                </a:solidFill>
                <a:latin typeface="Calibri"/>
              </a:rPr>
              <a:t> za dostavu ponude na tri adrese;</a:t>
            </a:r>
            <a:endParaRPr b="0" lang="sr-Latn-RS" sz="16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ts val="2999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›"/>
            </a:pPr>
            <a:r>
              <a:rPr b="0" lang="hr-HR" sz="1600" spc="-1" strike="noStrike">
                <a:solidFill>
                  <a:srgbClr val="000000"/>
                </a:solidFill>
                <a:latin typeface="Calibri"/>
              </a:rPr>
              <a:t>zaprimljena je jedna važeća ponuda te je ista </a:t>
            </a:r>
            <a:r>
              <a:rPr b="1" lang="hr-HR" sz="1600" spc="-1" strike="noStrike">
                <a:solidFill>
                  <a:srgbClr val="000000"/>
                </a:solidFill>
                <a:latin typeface="Calibri"/>
              </a:rPr>
              <a:t>odabrana</a:t>
            </a:r>
            <a:r>
              <a:rPr b="0" lang="hr-HR" sz="1600" spc="-1" strike="noStrike">
                <a:solidFill>
                  <a:srgbClr val="000000"/>
                </a:solidFill>
                <a:latin typeface="Calibri"/>
              </a:rPr>
              <a:t> kao najbolja ponuda 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1" lang="hr-HR" sz="1600" spc="-1" strike="noStrike">
                <a:solidFill>
                  <a:srgbClr val="000000"/>
                </a:solidFill>
                <a:latin typeface="Calibri"/>
              </a:rPr>
              <a:t>Pregovaračko izvješće </a:t>
            </a:r>
            <a:r>
              <a:rPr b="0" lang="hr-HR" sz="1600" spc="-1" strike="noStrike">
                <a:solidFill>
                  <a:srgbClr val="000000"/>
                </a:solidFill>
                <a:latin typeface="Calibri"/>
              </a:rPr>
              <a:t>za postupke sa samo jednom ponudom;</a:t>
            </a:r>
            <a:endParaRPr b="0" lang="sr-Latn-RS" sz="16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ts val="2999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›"/>
            </a:pPr>
            <a:r>
              <a:rPr b="0" lang="hr-HR" sz="1600" spc="-1" strike="noStrike">
                <a:solidFill>
                  <a:srgbClr val="000000"/>
                </a:solidFill>
                <a:latin typeface="Calibri"/>
              </a:rPr>
              <a:t>pripremljene i dostavljene podloge potrebne za izradu Elaborata te je s ponuditeljem potpisan </a:t>
            </a:r>
            <a:r>
              <a:rPr b="1" lang="hr-HR" sz="1600" spc="-1" strike="noStrike">
                <a:solidFill>
                  <a:srgbClr val="000000"/>
                </a:solidFill>
                <a:latin typeface="Calibri"/>
              </a:rPr>
              <a:t>ugovor</a:t>
            </a:r>
            <a:r>
              <a:rPr b="0" lang="hr-HR" sz="1600" spc="-1" strike="noStrike">
                <a:solidFill>
                  <a:srgbClr val="000000"/>
                </a:solidFill>
                <a:latin typeface="Calibri"/>
              </a:rPr>
              <a:t> o izradi Elaborata;</a:t>
            </a:r>
            <a:endParaRPr b="0" lang="sr-Latn-RS" sz="16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ts val="2999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›"/>
            </a:pPr>
            <a:r>
              <a:rPr b="0" lang="hr-HR" sz="1600" spc="-1" strike="noStrike">
                <a:solidFill>
                  <a:srgbClr val="000000"/>
                </a:solidFill>
                <a:latin typeface="Calibri"/>
              </a:rPr>
              <a:t>zaprimljeni izrađeni Elaborat zaštite okoliša proslijeđen </a:t>
            </a:r>
            <a:r>
              <a:rPr b="1" lang="hr-HR" sz="1600" spc="-1" strike="noStrike">
                <a:solidFill>
                  <a:srgbClr val="000000"/>
                </a:solidFill>
                <a:latin typeface="Calibri"/>
              </a:rPr>
              <a:t>ministarstvu</a:t>
            </a:r>
            <a:r>
              <a:rPr b="0" lang="hr-HR" sz="1600" spc="-1" strike="noStrike">
                <a:solidFill>
                  <a:srgbClr val="000000"/>
                </a:solidFill>
                <a:latin typeface="Calibri"/>
              </a:rPr>
              <a:t> na ocjenu o potrebi procjene utjecaja na okoliš.</a:t>
            </a:r>
            <a:endParaRPr b="0" lang="sr-Latn-R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4" descr="O:\Prostorno Planiranje\Karmela\PUT UP ISTRE\08_LOGOTIP\logo\si-hr_logo_croatian_hr\4C\OP_SI-HR_hr_rgb.jpg"/>
          <p:cNvPicPr/>
          <p:nvPr/>
        </p:nvPicPr>
        <p:blipFill>
          <a:blip r:embed="rId1"/>
          <a:stretch/>
        </p:blipFill>
        <p:spPr>
          <a:xfrm>
            <a:off x="4943880" y="188640"/>
            <a:ext cx="2345040" cy="5756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3" descr="O:\Prostorno Planiranje\Karmela\PUT UP ISTRE\08_LOGOTIP\logo\si-hr_public_croatian_hr\4C_RGB\OP_SI-HR_INVESTING_cro_RGB.jpg"/>
          <p:cNvPicPr/>
          <p:nvPr/>
        </p:nvPicPr>
        <p:blipFill>
          <a:blip r:embed="rId2"/>
          <a:stretch/>
        </p:blipFill>
        <p:spPr>
          <a:xfrm>
            <a:off x="4943880" y="6237360"/>
            <a:ext cx="2364480" cy="4316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2" descr="O:\Prostorno Planiranje\Karmela\PUT UP ISTRE\08_LOGOTIP\put-up_logo_color_CMYK.jpg"/>
          <p:cNvPicPr/>
          <p:nvPr/>
        </p:nvPicPr>
        <p:blipFill>
          <a:blip r:embed="rId3"/>
          <a:stretch/>
        </p:blipFill>
        <p:spPr>
          <a:xfrm>
            <a:off x="8749800" y="44640"/>
            <a:ext cx="1522440" cy="8636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" descr=""/>
          <p:cNvPicPr/>
          <p:nvPr/>
        </p:nvPicPr>
        <p:blipFill>
          <a:blip r:embed="rId4"/>
          <a:srcRect l="18316" t="16244" r="33853" b="12879"/>
          <a:stretch/>
        </p:blipFill>
        <p:spPr>
          <a:xfrm>
            <a:off x="1993680" y="116640"/>
            <a:ext cx="789480" cy="9356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81080" y="1350000"/>
            <a:ext cx="8229240" cy="56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hr-HR" sz="3600" spc="-1" strike="noStrike">
                <a:solidFill>
                  <a:srgbClr val="000000"/>
                </a:solidFill>
                <a:latin typeface="Calibri Light"/>
              </a:rPr>
              <a:t>Provedene aktivnosti_RP3</a:t>
            </a:r>
            <a:endParaRPr b="0" lang="sr-Latn-R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981080" y="2205000"/>
            <a:ext cx="8229240" cy="374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ts val="2999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hr-HR" sz="1800" spc="-1" strike="noStrike">
                <a:solidFill>
                  <a:srgbClr val="000000"/>
                </a:solidFill>
                <a:latin typeface="Calibri"/>
              </a:rPr>
              <a:t>Nabava robe 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hr-H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hr-HR" sz="1800" spc="-1" strike="noStrike">
                <a:solidFill>
                  <a:srgbClr val="000000"/>
                </a:solidFill>
                <a:latin typeface="Calibri"/>
              </a:rPr>
              <a:t>ARCGIS MREŽNA LICENCA</a:t>
            </a:r>
            <a:endParaRPr b="0" lang="sr-Latn-RS" sz="1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ts val="2999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›"/>
            </a:pPr>
            <a:r>
              <a:rPr b="0" lang="hr-HR" sz="1600" spc="-1" strike="noStrike">
                <a:solidFill>
                  <a:srgbClr val="000000"/>
                </a:solidFill>
                <a:latin typeface="Calibri"/>
              </a:rPr>
              <a:t>upućeni </a:t>
            </a:r>
            <a:r>
              <a:rPr b="1" lang="hr-HR" sz="1600" spc="-1" strike="noStrike">
                <a:solidFill>
                  <a:srgbClr val="000000"/>
                </a:solidFill>
                <a:latin typeface="Calibri"/>
              </a:rPr>
              <a:t>pozivi</a:t>
            </a:r>
            <a:r>
              <a:rPr b="0" lang="hr-HR" sz="1600" spc="-1" strike="noStrike">
                <a:solidFill>
                  <a:srgbClr val="000000"/>
                </a:solidFill>
                <a:latin typeface="Calibri"/>
              </a:rPr>
              <a:t> za dostavu ponude na tri adrese;</a:t>
            </a:r>
            <a:endParaRPr b="0" lang="sr-Latn-RS" sz="16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ts val="2999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›"/>
            </a:pPr>
            <a:r>
              <a:rPr b="0" lang="hr-HR" sz="1600" spc="-1" strike="noStrike">
                <a:solidFill>
                  <a:srgbClr val="000000"/>
                </a:solidFill>
                <a:latin typeface="Calibri"/>
              </a:rPr>
              <a:t>zaprimljena je </a:t>
            </a:r>
            <a:r>
              <a:rPr b="1" lang="hr-HR" sz="1600" spc="-1" strike="noStrike">
                <a:solidFill>
                  <a:srgbClr val="000000"/>
                </a:solidFill>
                <a:latin typeface="Calibri"/>
              </a:rPr>
              <a:t>jedna važeća ponuda </a:t>
            </a:r>
            <a:r>
              <a:rPr b="0" lang="hr-HR" sz="1600" spc="-1" strike="noStrike">
                <a:solidFill>
                  <a:srgbClr val="000000"/>
                </a:solidFill>
                <a:latin typeface="Calibri"/>
              </a:rPr>
              <a:t>te je ista odabrana kao najbolja ponuda 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1" lang="hr-HR" sz="1600" spc="-1" strike="noStrike">
                <a:solidFill>
                  <a:srgbClr val="000000"/>
                </a:solidFill>
                <a:latin typeface="Calibri"/>
              </a:rPr>
              <a:t>Pregovaračko izvješće </a:t>
            </a:r>
            <a:r>
              <a:rPr b="0" lang="hr-HR" sz="1600" spc="-1" strike="noStrike">
                <a:solidFill>
                  <a:srgbClr val="000000"/>
                </a:solidFill>
                <a:latin typeface="Calibri"/>
              </a:rPr>
              <a:t>za postupke sa samo jednom ponudom;</a:t>
            </a:r>
            <a:endParaRPr b="0" lang="sr-Latn-RS" sz="16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ts val="2999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›"/>
            </a:pPr>
            <a:r>
              <a:rPr b="0" lang="hr-HR" sz="1600" spc="-1" strike="noStrike">
                <a:solidFill>
                  <a:srgbClr val="000000"/>
                </a:solidFill>
                <a:latin typeface="Calibri"/>
              </a:rPr>
              <a:t>ponuditelju poslana </a:t>
            </a:r>
            <a:r>
              <a:rPr b="1" lang="hr-HR" sz="1600" spc="-1" strike="noStrike">
                <a:solidFill>
                  <a:srgbClr val="000000"/>
                </a:solidFill>
                <a:latin typeface="Calibri"/>
              </a:rPr>
              <a:t>narudžbenica</a:t>
            </a:r>
            <a:r>
              <a:rPr b="0" lang="hr-HR" sz="16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sr-Latn-RS" sz="16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ts val="2999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›"/>
            </a:pPr>
            <a:r>
              <a:rPr b="0" lang="hr-HR" sz="1600" spc="-1" strike="noStrike">
                <a:solidFill>
                  <a:srgbClr val="000000"/>
                </a:solidFill>
                <a:latin typeface="Calibri"/>
              </a:rPr>
              <a:t>zaprimljeni materijali nužni za instalaciju 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hr-HR" sz="1600" spc="-1" strike="noStrike">
                <a:solidFill>
                  <a:srgbClr val="000000"/>
                </a:solidFill>
                <a:latin typeface="Calibri"/>
              </a:rPr>
              <a:t>izvršena </a:t>
            </a:r>
            <a:r>
              <a:rPr b="1" lang="hr-HR" sz="1600" spc="-1" strike="noStrike">
                <a:solidFill>
                  <a:srgbClr val="000000"/>
                </a:solidFill>
                <a:latin typeface="Calibri"/>
              </a:rPr>
              <a:t>instalacija</a:t>
            </a:r>
            <a:r>
              <a:rPr b="0" lang="hr-HR" sz="1600" spc="-1" strike="noStrike">
                <a:solidFill>
                  <a:srgbClr val="000000"/>
                </a:solidFill>
                <a:latin typeface="Calibri"/>
              </a:rPr>
              <a:t> programa na računalima.</a:t>
            </a:r>
            <a:endParaRPr b="0" lang="sr-Latn-RS" sz="1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ts val="36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1" lang="hr-HR" sz="1800" spc="-1" strike="noStrike">
                <a:solidFill>
                  <a:srgbClr val="000000"/>
                </a:solidFill>
                <a:latin typeface="Calibri"/>
              </a:rPr>
              <a:t>Sastanak u Puli</a:t>
            </a:r>
            <a:r>
              <a:rPr b="0" lang="hr-HR" sz="1800" spc="-1" strike="noStrike">
                <a:solidFill>
                  <a:srgbClr val="000000"/>
                </a:solidFill>
                <a:latin typeface="Calibri"/>
              </a:rPr>
              <a:t>, 20.07.2015.</a:t>
            </a:r>
            <a:endParaRPr b="0" lang="sr-Latn-RS" sz="1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ts val="36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›"/>
            </a:pPr>
            <a:r>
              <a:rPr b="0" lang="hr-HR" sz="1600" spc="-1" strike="noStrike">
                <a:solidFill>
                  <a:srgbClr val="000000"/>
                </a:solidFill>
                <a:latin typeface="Calibri"/>
              </a:rPr>
              <a:t>Grad Pula - Gradska općina Kopar 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hr-HR" sz="1600" spc="-1" strike="noStrike">
                <a:solidFill>
                  <a:srgbClr val="000000"/>
                </a:solidFill>
                <a:latin typeface="Calibri"/>
              </a:rPr>
              <a:t>prijenos dobre prakse iz Kopra;</a:t>
            </a:r>
            <a:endParaRPr b="0" lang="sr-Latn-R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sr-Latn-R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ts val="3600"/>
              </a:lnSpc>
              <a:spcBef>
                <a:spcPts val="1001"/>
              </a:spcBef>
              <a:buNone/>
            </a:pPr>
            <a:endParaRPr b="0" lang="sr-Latn-R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sr-Latn-R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4" descr="O:\Prostorno Planiranje\Karmela\PUT UP ISTRE\08_LOGOTIP\logo\si-hr_logo_croatian_hr\4C\OP_SI-HR_hr_rgb.jpg"/>
          <p:cNvPicPr/>
          <p:nvPr/>
        </p:nvPicPr>
        <p:blipFill>
          <a:blip r:embed="rId1"/>
          <a:stretch/>
        </p:blipFill>
        <p:spPr>
          <a:xfrm>
            <a:off x="4943880" y="188640"/>
            <a:ext cx="2345040" cy="5756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3" descr="O:\Prostorno Planiranje\Karmela\PUT UP ISTRE\08_LOGOTIP\logo\si-hr_public_croatian_hr\4C_RGB\OP_SI-HR_INVESTING_cro_RGB.jpg"/>
          <p:cNvPicPr/>
          <p:nvPr/>
        </p:nvPicPr>
        <p:blipFill>
          <a:blip r:embed="rId2"/>
          <a:stretch/>
        </p:blipFill>
        <p:spPr>
          <a:xfrm>
            <a:off x="4943880" y="6237360"/>
            <a:ext cx="2364480" cy="4316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" descr="O:\Prostorno Planiranje\Karmela\PUT UP ISTRE\08_LOGOTIP\put-up_logo_color_CMYK.jpg"/>
          <p:cNvPicPr/>
          <p:nvPr/>
        </p:nvPicPr>
        <p:blipFill>
          <a:blip r:embed="rId3"/>
          <a:stretch/>
        </p:blipFill>
        <p:spPr>
          <a:xfrm>
            <a:off x="8749800" y="44640"/>
            <a:ext cx="1522440" cy="8636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6" descr=""/>
          <p:cNvPicPr/>
          <p:nvPr/>
        </p:nvPicPr>
        <p:blipFill>
          <a:blip r:embed="rId4"/>
          <a:srcRect l="18316" t="16244" r="33853" b="12879"/>
          <a:stretch/>
        </p:blipFill>
        <p:spPr>
          <a:xfrm>
            <a:off x="1993680" y="116640"/>
            <a:ext cx="789480" cy="9356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81080" y="1350000"/>
            <a:ext cx="8229240" cy="56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hr-HR" sz="3600" spc="-1" strike="noStrike">
                <a:solidFill>
                  <a:srgbClr val="000000"/>
                </a:solidFill>
                <a:latin typeface="Calibri Light"/>
              </a:rPr>
              <a:t>Provedene aktivnosti_RP4</a:t>
            </a:r>
            <a:endParaRPr b="0" lang="sr-Latn-R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981080" y="2205000"/>
            <a:ext cx="8229240" cy="5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1" lang="hr-HR" sz="1600" spc="-1" strike="noStrike">
                <a:solidFill>
                  <a:srgbClr val="000000"/>
                </a:solidFill>
                <a:latin typeface="Calibri"/>
              </a:rPr>
              <a:t>Press konferencija </a:t>
            </a:r>
            <a:r>
              <a:rPr b="0" lang="hr-HR" sz="1600" spc="-1" strike="noStrike">
                <a:solidFill>
                  <a:srgbClr val="000000"/>
                </a:solidFill>
                <a:latin typeface="Calibri"/>
              </a:rPr>
              <a:t>u Puli, 18.05.2015 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hr-HR" sz="1600" spc="-1" strike="noStrike">
                <a:solidFill>
                  <a:srgbClr val="000000"/>
                </a:solidFill>
                <a:latin typeface="Calibri"/>
              </a:rPr>
              <a:t>potpisivanje Sporazuma o partnerstvu</a:t>
            </a:r>
            <a:endParaRPr b="0" lang="sr-Latn-RS" sz="1600" spc="-1" strike="noStrike">
              <a:solidFill>
                <a:srgbClr val="000000"/>
              </a:solidFill>
              <a:latin typeface="Calibri"/>
            </a:endParaRPr>
          </a:p>
          <a:p>
            <a:pPr marL="685800" indent="0">
              <a:lnSpc>
                <a:spcPts val="2999"/>
              </a:lnSpc>
              <a:spcBef>
                <a:spcPts val="499"/>
              </a:spcBef>
              <a:buNone/>
              <a:tabLst>
                <a:tab algn="l" pos="0"/>
              </a:tabLst>
            </a:pPr>
            <a:endParaRPr b="0" lang="sr-Latn-R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ts val="36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sr-Latn-R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sr-Latn-R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4" descr="O:\Prostorno Planiranje\Karmela\PUT UP ISTRE\08_LOGOTIP\logo\si-hr_logo_croatian_hr\4C\OP_SI-HR_hr_rgb.jpg"/>
          <p:cNvPicPr/>
          <p:nvPr/>
        </p:nvPicPr>
        <p:blipFill>
          <a:blip r:embed="rId1"/>
          <a:stretch/>
        </p:blipFill>
        <p:spPr>
          <a:xfrm>
            <a:off x="4943880" y="188640"/>
            <a:ext cx="2345040" cy="5756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3" descr="O:\Prostorno Planiranje\Karmela\PUT UP ISTRE\08_LOGOTIP\logo\si-hr_public_croatian_hr\4C_RGB\OP_SI-HR_INVESTING_cro_RGB.jpg"/>
          <p:cNvPicPr/>
          <p:nvPr/>
        </p:nvPicPr>
        <p:blipFill>
          <a:blip r:embed="rId2"/>
          <a:stretch/>
        </p:blipFill>
        <p:spPr>
          <a:xfrm>
            <a:off x="4943880" y="6237360"/>
            <a:ext cx="2364480" cy="4316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2" descr="O:\Prostorno Planiranje\Karmela\PUT UP ISTRE\08_LOGOTIP\put-up_logo_color_CMYK.jpg"/>
          <p:cNvPicPr/>
          <p:nvPr/>
        </p:nvPicPr>
        <p:blipFill>
          <a:blip r:embed="rId3"/>
          <a:stretch/>
        </p:blipFill>
        <p:spPr>
          <a:xfrm>
            <a:off x="8749800" y="44640"/>
            <a:ext cx="1522440" cy="8636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6" descr=""/>
          <p:cNvPicPr/>
          <p:nvPr/>
        </p:nvPicPr>
        <p:blipFill>
          <a:blip r:embed="rId4"/>
          <a:srcRect l="18316" t="16244" r="33853" b="12879"/>
          <a:stretch/>
        </p:blipFill>
        <p:spPr>
          <a:xfrm>
            <a:off x="1993680" y="116640"/>
            <a:ext cx="789480" cy="935640"/>
          </a:xfrm>
          <a:prstGeom prst="rect">
            <a:avLst/>
          </a:prstGeom>
          <a:ln w="9525">
            <a:noFill/>
          </a:ln>
        </p:spPr>
      </p:pic>
      <p:sp>
        <p:nvSpPr>
          <p:cNvPr id="112" name="Content Placeholder 2"/>
          <p:cNvSpPr/>
          <p:nvPr/>
        </p:nvSpPr>
        <p:spPr>
          <a:xfrm>
            <a:off x="1981080" y="3933000"/>
            <a:ext cx="822924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 fontScale="94000"/>
          </a:bodyPr>
          <a:p>
            <a:pPr marL="348480" indent="-348480">
              <a:lnSpc>
                <a:spcPts val="3600"/>
              </a:lnSpc>
              <a:spcBef>
                <a:spcPts val="320"/>
              </a:spcBef>
              <a:buClr>
                <a:srgbClr val="000000"/>
              </a:buClr>
              <a:buFont typeface="Arial"/>
              <a:buChar char="•"/>
            </a:pPr>
            <a:r>
              <a:rPr b="1" lang="hr-HR" sz="1600" spc="-1" strike="noStrike">
                <a:solidFill>
                  <a:srgbClr val="000000"/>
                </a:solidFill>
                <a:latin typeface="Calibri"/>
              </a:rPr>
              <a:t>Ažuriranje dokumentacije </a:t>
            </a:r>
            <a:r>
              <a:rPr b="0" lang="hr-HR" sz="1600" spc="-1" strike="noStrike">
                <a:solidFill>
                  <a:srgbClr val="000000"/>
                </a:solidFill>
                <a:latin typeface="Calibri"/>
              </a:rPr>
              <a:t>iz prijavnice 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hr-HR" sz="1600" spc="-1" strike="noStrike">
                <a:solidFill>
                  <a:srgbClr val="000000"/>
                </a:solidFill>
                <a:latin typeface="Calibri"/>
              </a:rPr>
              <a:t> tekstualne izmjene, dostava informativnih ponu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8480" indent="-348480">
              <a:lnSpc>
                <a:spcPts val="3600"/>
              </a:lnSpc>
              <a:spcBef>
                <a:spcPts val="320"/>
              </a:spcBef>
              <a:buClr>
                <a:srgbClr val="000000"/>
              </a:buClr>
              <a:buFont typeface="Arial"/>
              <a:buChar char="•"/>
            </a:pPr>
            <a:r>
              <a:rPr b="1" lang="hr-HR" sz="1600" spc="-1" strike="noStrike">
                <a:solidFill>
                  <a:srgbClr val="000000"/>
                </a:solidFill>
                <a:latin typeface="Calibri"/>
              </a:rPr>
              <a:t>Prezentacija projekta </a:t>
            </a:r>
            <a:r>
              <a:rPr b="0" lang="hr-HR" sz="1600" spc="-1" strike="noStrike">
                <a:solidFill>
                  <a:srgbClr val="000000"/>
                </a:solidFill>
                <a:latin typeface="Calibri"/>
              </a:rPr>
              <a:t>zainteresiranim čimbenicima unutar Grada Pu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8480" indent="-348480">
              <a:lnSpc>
                <a:spcPts val="3600"/>
              </a:lnSpc>
              <a:spcBef>
                <a:spcPts val="320"/>
              </a:spcBef>
              <a:buClr>
                <a:srgbClr val="000000"/>
              </a:buClr>
              <a:buFont typeface="Arial"/>
              <a:buChar char="•"/>
            </a:pPr>
            <a:r>
              <a:rPr b="0" lang="hr-HR" sz="1600" spc="-1" strike="noStrike">
                <a:solidFill>
                  <a:srgbClr val="000000"/>
                </a:solidFill>
                <a:latin typeface="Calibri"/>
              </a:rPr>
              <a:t>Priprema odgovora na </a:t>
            </a:r>
            <a:r>
              <a:rPr b="1" lang="hr-HR" sz="1600" spc="-1" strike="noStrike">
                <a:solidFill>
                  <a:srgbClr val="000000"/>
                </a:solidFill>
                <a:latin typeface="Calibri"/>
              </a:rPr>
              <a:t>novinarska pitanja </a:t>
            </a:r>
            <a:r>
              <a:rPr b="0" lang="hr-HR" sz="1600" spc="-1" strike="noStrike">
                <a:solidFill>
                  <a:srgbClr val="000000"/>
                </a:solidFill>
                <a:latin typeface="Calibri"/>
              </a:rPr>
              <a:t>vezana uz financiranje Grada Pule u sklopu projek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8480" indent="-348480">
              <a:lnSpc>
                <a:spcPts val="3600"/>
              </a:lnSpc>
              <a:spcBef>
                <a:spcPts val="320"/>
              </a:spcBef>
              <a:buClr>
                <a:srgbClr val="000000"/>
              </a:buClr>
              <a:buFont typeface="Arial"/>
              <a:buChar char="•"/>
            </a:pPr>
            <a:r>
              <a:rPr b="0" lang="hr-HR" sz="1600" spc="-1" strike="noStrike">
                <a:solidFill>
                  <a:srgbClr val="000000"/>
                </a:solidFill>
                <a:latin typeface="Calibri"/>
              </a:rPr>
              <a:t>Ishođeno oslobođenje od plaćanja PDV-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8480" indent="-348480">
              <a:lnSpc>
                <a:spcPts val="3600"/>
              </a:lnSpc>
              <a:spcBef>
                <a:spcPts val="479"/>
              </a:spcBef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itle 1"/>
          <p:cNvSpPr/>
          <p:nvPr/>
        </p:nvSpPr>
        <p:spPr>
          <a:xfrm>
            <a:off x="2135520" y="3222000"/>
            <a:ext cx="82292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</a:pPr>
            <a:r>
              <a:rPr b="0" lang="hr-HR" sz="3600" spc="-1" strike="noStrike">
                <a:solidFill>
                  <a:srgbClr val="000000"/>
                </a:solidFill>
                <a:latin typeface="Calibri Light"/>
              </a:rPr>
              <a:t>Ostale provedene aktivnost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81080" y="1350000"/>
            <a:ext cx="8229240" cy="56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hr-HR" sz="3600" spc="-1" strike="noStrike">
                <a:solidFill>
                  <a:srgbClr val="000000"/>
                </a:solidFill>
                <a:latin typeface="Calibri Light"/>
              </a:rPr>
              <a:t>Aktivnosti u tijeku/planirane aktivnosti</a:t>
            </a:r>
            <a:endParaRPr b="0" lang="sr-Latn-R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981080" y="2205000"/>
            <a:ext cx="8002800" cy="392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ts val="36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hr-HR" sz="1600" spc="-1" strike="noStrike">
                <a:solidFill>
                  <a:srgbClr val="000000"/>
                </a:solidFill>
                <a:latin typeface="Calibri"/>
              </a:rPr>
              <a:t>Trenutno je u izradi dokumentacija potrebna za provedbu nabave usluge izrade           </a:t>
            </a:r>
            <a:r>
              <a:rPr b="1" lang="hr-HR" sz="1600" spc="-1" strike="noStrike">
                <a:solidFill>
                  <a:srgbClr val="000000"/>
                </a:solidFill>
                <a:latin typeface="Calibri"/>
              </a:rPr>
              <a:t>IDEJNOG PROJEKTA </a:t>
            </a:r>
            <a:r>
              <a:rPr b="0" lang="hr-HR" sz="1600" spc="-1" strike="noStrike">
                <a:solidFill>
                  <a:srgbClr val="000000"/>
                </a:solidFill>
                <a:latin typeface="Calibri"/>
              </a:rPr>
              <a:t>UREĐENJA RIVE U PULI</a:t>
            </a:r>
            <a:endParaRPr b="0" lang="sr-Latn-RS" sz="1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ts val="36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hr-HR" sz="1600" spc="-1" strike="noStrike">
                <a:solidFill>
                  <a:srgbClr val="000000"/>
                </a:solidFill>
                <a:latin typeface="Calibri"/>
              </a:rPr>
              <a:t>Tijekom sljedećih dva mjeseca planirana je </a:t>
            </a:r>
            <a:r>
              <a:rPr b="1" lang="hr-HR" sz="1600" spc="-1" strike="noStrike">
                <a:solidFill>
                  <a:srgbClr val="000000"/>
                </a:solidFill>
                <a:latin typeface="Calibri"/>
              </a:rPr>
              <a:t>edukacija</a:t>
            </a:r>
            <a:r>
              <a:rPr b="0" lang="hr-HR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hr-HR" sz="1600" spc="-1" strike="noStrike">
                <a:solidFill>
                  <a:srgbClr val="000000"/>
                </a:solidFill>
                <a:latin typeface="Calibri"/>
              </a:rPr>
              <a:t>ArcGIS</a:t>
            </a:r>
            <a:r>
              <a:rPr b="0" lang="hr-HR" sz="1600" spc="-1" strike="noStrike">
                <a:solidFill>
                  <a:srgbClr val="000000"/>
                </a:solidFill>
                <a:latin typeface="Calibri"/>
              </a:rPr>
              <a:t> programa za dva djelatnika u trajanju od ukupno 12 dana</a:t>
            </a:r>
            <a:endParaRPr b="0" lang="sr-Latn-R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Picture 4" descr="O:\Prostorno Planiranje\Karmela\PUT UP ISTRE\08_LOGOTIP\logo\si-hr_logo_croatian_hr\4C\OP_SI-HR_hr_rgb.jpg"/>
          <p:cNvPicPr/>
          <p:nvPr/>
        </p:nvPicPr>
        <p:blipFill>
          <a:blip r:embed="rId1"/>
          <a:stretch/>
        </p:blipFill>
        <p:spPr>
          <a:xfrm>
            <a:off x="4943880" y="188640"/>
            <a:ext cx="2345040" cy="5756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3" descr="O:\Prostorno Planiranje\Karmela\PUT UP ISTRE\08_LOGOTIP\logo\si-hr_public_croatian_hr\4C_RGB\OP_SI-HR_INVESTING_cro_RGB.jpg"/>
          <p:cNvPicPr/>
          <p:nvPr/>
        </p:nvPicPr>
        <p:blipFill>
          <a:blip r:embed="rId2"/>
          <a:stretch/>
        </p:blipFill>
        <p:spPr>
          <a:xfrm>
            <a:off x="4943880" y="6237360"/>
            <a:ext cx="2364480" cy="4316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2" descr="O:\Prostorno Planiranje\Karmela\PUT UP ISTRE\08_LOGOTIP\put-up_logo_color_CMYK.jpg"/>
          <p:cNvPicPr/>
          <p:nvPr/>
        </p:nvPicPr>
        <p:blipFill>
          <a:blip r:embed="rId3"/>
          <a:stretch/>
        </p:blipFill>
        <p:spPr>
          <a:xfrm>
            <a:off x="8749800" y="44640"/>
            <a:ext cx="1522440" cy="8636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6" descr=""/>
          <p:cNvPicPr/>
          <p:nvPr/>
        </p:nvPicPr>
        <p:blipFill>
          <a:blip r:embed="rId4"/>
          <a:srcRect l="18316" t="16244" r="33853" b="12879"/>
          <a:stretch/>
        </p:blipFill>
        <p:spPr>
          <a:xfrm>
            <a:off x="1993680" y="116640"/>
            <a:ext cx="789480" cy="9356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981080" y="1350000"/>
            <a:ext cx="8229240" cy="56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hr-HR" sz="3600" spc="-1" strike="noStrike">
                <a:solidFill>
                  <a:srgbClr val="000000"/>
                </a:solidFill>
                <a:latin typeface="Calibri Light"/>
              </a:rPr>
              <a:t>Troškovi</a:t>
            </a:r>
            <a:endParaRPr b="0" lang="sr-Latn-R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1" name="Content Placeholder 7"/>
          <p:cNvGraphicFramePr/>
          <p:nvPr/>
        </p:nvGraphicFramePr>
        <p:xfrm>
          <a:off x="2711520" y="2853000"/>
          <a:ext cx="6768360" cy="972000"/>
        </p:xfrm>
        <a:graphic>
          <a:graphicData uri="http://schemas.openxmlformats.org/drawingml/2006/table">
            <a:tbl>
              <a:tblPr/>
              <a:tblGrid>
                <a:gridCol w="3384360"/>
                <a:gridCol w="1692000"/>
                <a:gridCol w="1692000"/>
              </a:tblGrid>
              <a:tr h="324000">
                <a:tc gridSpan="3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hr-HR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roškovi od 01.08.2015.do 25.09.2015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4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laborat zaštite okoliš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1de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6 000 k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1de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 689,36 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1deef"/>
                    </a:solidFill>
                  </a:tcPr>
                </a:tc>
              </a:tr>
              <a:tr h="324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cGIS mrežna licen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9 990 k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 214,67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122" name="Picture 4" descr="O:\Prostorno Planiranje\Karmela\PUT UP ISTRE\08_LOGOTIP\logo\si-hr_logo_croatian_hr\4C\OP_SI-HR_hr_rgb.jpg"/>
          <p:cNvPicPr/>
          <p:nvPr/>
        </p:nvPicPr>
        <p:blipFill>
          <a:blip r:embed="rId1"/>
          <a:stretch/>
        </p:blipFill>
        <p:spPr>
          <a:xfrm>
            <a:off x="4943880" y="188640"/>
            <a:ext cx="2345040" cy="5756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3" descr="O:\Prostorno Planiranje\Karmela\PUT UP ISTRE\08_LOGOTIP\logo\si-hr_public_croatian_hr\4C_RGB\OP_SI-HR_INVESTING_cro_RGB.jpg"/>
          <p:cNvPicPr/>
          <p:nvPr/>
        </p:nvPicPr>
        <p:blipFill>
          <a:blip r:embed="rId2"/>
          <a:stretch/>
        </p:blipFill>
        <p:spPr>
          <a:xfrm>
            <a:off x="4943880" y="6237360"/>
            <a:ext cx="2364480" cy="4316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2" descr="O:\Prostorno Planiranje\Karmela\PUT UP ISTRE\08_LOGOTIP\put-up_logo_color_CMYK.jpg"/>
          <p:cNvPicPr/>
          <p:nvPr/>
        </p:nvPicPr>
        <p:blipFill>
          <a:blip r:embed="rId3"/>
          <a:stretch/>
        </p:blipFill>
        <p:spPr>
          <a:xfrm>
            <a:off x="8749800" y="44640"/>
            <a:ext cx="1522440" cy="8636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6" descr=""/>
          <p:cNvPicPr/>
          <p:nvPr/>
        </p:nvPicPr>
        <p:blipFill>
          <a:blip r:embed="rId4"/>
          <a:srcRect l="18316" t="16244" r="33853" b="12879"/>
          <a:stretch/>
        </p:blipFill>
        <p:spPr>
          <a:xfrm>
            <a:off x="1993680" y="116640"/>
            <a:ext cx="789480" cy="935640"/>
          </a:xfrm>
          <a:prstGeom prst="rect">
            <a:avLst/>
          </a:prstGeom>
          <a:ln w="9525">
            <a:noFill/>
          </a:ln>
        </p:spPr>
      </p:pic>
      <p:graphicFrame>
        <p:nvGraphicFramePr>
          <p:cNvPr id="126" name="Content Placeholder 7"/>
          <p:cNvGraphicFramePr/>
          <p:nvPr/>
        </p:nvGraphicFramePr>
        <p:xfrm>
          <a:off x="2711520" y="4240080"/>
          <a:ext cx="6768360" cy="683640"/>
        </p:xfrm>
        <a:graphic>
          <a:graphicData uri="http://schemas.openxmlformats.org/drawingml/2006/table">
            <a:tbl>
              <a:tblPr/>
              <a:tblGrid>
                <a:gridCol w="3384360"/>
                <a:gridCol w="1692000"/>
                <a:gridCol w="1692000"/>
              </a:tblGrid>
              <a:tr h="356760">
                <a:tc gridSpan="3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hr-HR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lanirane aktivnosti do 31.12.2015</a:t>
                      </a:r>
                      <a:r>
                        <a:rPr b="0" lang="hr-H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6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dukacija  za korištenje ArcGIS-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1de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1de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 422 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1dee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27" name="Content Placeholder 7"/>
          <p:cNvGraphicFramePr/>
          <p:nvPr/>
        </p:nvGraphicFramePr>
        <p:xfrm>
          <a:off x="2711520" y="1989000"/>
          <a:ext cx="6768360" cy="683640"/>
        </p:xfrm>
        <a:graphic>
          <a:graphicData uri="http://schemas.openxmlformats.org/drawingml/2006/table">
            <a:tbl>
              <a:tblPr/>
              <a:tblGrid>
                <a:gridCol w="3384360"/>
                <a:gridCol w="1692000"/>
                <a:gridCol w="1692000"/>
              </a:tblGrid>
              <a:tr h="356760">
                <a:tc gridSpan="3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hr-HR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roškovi od 02.02.2015.do 31.07.2015</a:t>
                      </a:r>
                      <a:r>
                        <a:rPr b="0" lang="hr-H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6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oškovi osoblj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1de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</a:pPr>
                      <a:r>
                        <a:rPr b="0" lang="de-DE" sz="1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7.793,51</a:t>
                      </a: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k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1de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</a:pPr>
                      <a:r>
                        <a:rPr b="0" lang="de-DE" sz="1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2</a:t>
                      </a:r>
                      <a:r>
                        <a:rPr b="0" lang="hr-HR" sz="1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 </a:t>
                      </a:r>
                      <a:r>
                        <a:rPr b="0" lang="de-DE" sz="1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3</a:t>
                      </a:r>
                      <a:r>
                        <a:rPr b="0" lang="hr-HR" sz="1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42</a:t>
                      </a:r>
                      <a:r>
                        <a:rPr b="0" lang="de-DE" sz="1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,</a:t>
                      </a:r>
                      <a:r>
                        <a:rPr b="0" lang="hr-HR" sz="1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63 </a:t>
                      </a: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1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38640" y="2426400"/>
            <a:ext cx="9143640" cy="1292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7000"/>
          </a:bodyPr>
          <a:p>
            <a:pPr indent="0" algn="ctr">
              <a:lnSpc>
                <a:spcPct val="150000"/>
              </a:lnSpc>
              <a:buNone/>
            </a:pPr>
            <a:br>
              <a:rPr sz="2000"/>
            </a:br>
            <a:r>
              <a:rPr b="1" lang="hr-HR" sz="4000" spc="-1" strike="noStrike">
                <a:solidFill>
                  <a:srgbClr val="000000"/>
                </a:solidFill>
                <a:latin typeface="Calibri"/>
              </a:rPr>
              <a:t>HVALA NA PAŽNJI</a:t>
            </a:r>
            <a:endParaRPr b="0" lang="sr-Latn-R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2" descr="O:\Prostorno Planiranje\Karmela\PUT UP ISTRE\08_LOGOTIP\put-up_logo_color_CMYK.jpg"/>
          <p:cNvPicPr/>
          <p:nvPr/>
        </p:nvPicPr>
        <p:blipFill>
          <a:blip r:embed="rId1"/>
          <a:stretch/>
        </p:blipFill>
        <p:spPr>
          <a:xfrm>
            <a:off x="8750160" y="44640"/>
            <a:ext cx="1522080" cy="8636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" descr="O:\Prostorno Planiranje\Karmela\PUT UP ISTRE\08_LOGOTIP\logo\si-hr_public_croatian_hr\4C_RGB\OP_SI-HR_INVESTING_cro_RGB.jpg"/>
          <p:cNvPicPr/>
          <p:nvPr/>
        </p:nvPicPr>
        <p:blipFill>
          <a:blip r:embed="rId2"/>
          <a:stretch/>
        </p:blipFill>
        <p:spPr>
          <a:xfrm>
            <a:off x="4526640" y="5949360"/>
            <a:ext cx="3153240" cy="5756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4" descr="O:\Prostorno Planiranje\Karmela\PUT UP ISTRE\08_LOGOTIP\logo\si-hr_logo_croatian_hr\4C\OP_SI-HR_hr_rgb.jpg"/>
          <p:cNvPicPr/>
          <p:nvPr/>
        </p:nvPicPr>
        <p:blipFill>
          <a:blip r:embed="rId3"/>
          <a:stretch/>
        </p:blipFill>
        <p:spPr>
          <a:xfrm>
            <a:off x="1847520" y="188640"/>
            <a:ext cx="2345400" cy="5756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"/>
          <p:cNvPicPr/>
          <p:nvPr/>
        </p:nvPicPr>
        <p:blipFill>
          <a:blip r:embed="rId4"/>
          <a:srcRect l="18316" t="16244" r="33853" b="12879"/>
          <a:stretch/>
        </p:blipFill>
        <p:spPr>
          <a:xfrm>
            <a:off x="5591880" y="1196640"/>
            <a:ext cx="1037160" cy="12290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Tema sustava Office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Tema sustava Office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  <Words>358</Words>
  <Paragraphs>57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8T13:37:26Z</dcterms:created>
  <dc:creator>Sandro Krizman</dc:creator>
  <dc:description/>
  <dc:language>en-US</dc:language>
  <cp:lastModifiedBy>Karmela Maren</cp:lastModifiedBy>
  <dcterms:modified xsi:type="dcterms:W3CDTF">2015-09-21T07:11:43Z</dcterms:modified>
  <cp:revision>3</cp:revision>
  <dc:subject/>
  <dc:title>PUT-UP ISTRE PROVEDENE AKTIVNOSTI I FINANCIJSKI IZVJEŠTAJ GRADA PU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Custom</vt:lpwstr>
  </property>
  <property fmtid="{D5CDD505-2E9C-101B-9397-08002B2CF9AE}" pid="3" name="Slides">
    <vt:r8>8</vt:r8>
  </property>
</Properties>
</file>